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F6494-D764-478F-948D-F27AF254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7126E-0F4F-4C6E-B80D-9FFA5BCB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BB62-8ADA-491F-AF37-CECB5E68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DAB4-EE96-4539-A2AE-582640AE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970E-DEB3-40A2-A14F-80FD8581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CF667-D02D-405F-BC59-2EEC5321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F4EC0-B0CB-467C-B908-DC61A06F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7FB8A-C380-4D75-A2BE-486A7D67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95CB9-4BF3-426B-96B6-37DA3A62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76656-1287-4A29-89A8-F2955AD8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A96DC-E1BB-46B3-B285-3532E66F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E21A0-C486-4997-AD5D-05D7D365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8A06-9CA4-4965-A7DE-0C4FA6933C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1 Апреля 2009 - Официальный сайт школы 725"/>
          <p:cNvPicPr/>
          <p:nvPr/>
        </p:nvPicPr>
        <p:blipFill>
          <a:blip r:embed="rId1"/>
          <a:stretch/>
        </p:blipFill>
        <p:spPr>
          <a:xfrm>
            <a:off x="30240" y="88920"/>
            <a:ext cx="9113760" cy="6769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Природные ресурсы 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меним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это природные ресурсы, которые можно заменить сейчас или в будущем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мер: топливно-минеральные энергоресурс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4" descr="coal"/>
          <p:cNvPicPr/>
          <p:nvPr/>
        </p:nvPicPr>
        <p:blipFill>
          <a:blip r:embed="rId1"/>
          <a:stretch/>
        </p:blipFill>
        <p:spPr>
          <a:xfrm>
            <a:off x="3352680" y="3238560"/>
            <a:ext cx="57913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заменим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природные ресурсы, которые нельзя заменить другими ресурсам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воздух, вода, генетический фонд живого мир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0" name="Picture 4" descr="0_454d_d3aefea6_XL"/>
          <p:cNvPicPr/>
          <p:nvPr/>
        </p:nvPicPr>
        <p:blipFill>
          <a:blip r:embed="rId1"/>
          <a:srcRect l="0" t="6073" r="0" b="5610"/>
          <a:stretch/>
        </p:blipFill>
        <p:spPr>
          <a:xfrm>
            <a:off x="3429000" y="3257640"/>
            <a:ext cx="5715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черпаем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- это природные ресурсы, количество которых ограничено: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а) возобновимые -способные к быстрому восстановлению;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б) относительно возобновимые - способные к восстановлению за более длительный срок;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в) невозобновимые - совершенно не восстанавливаются</a:t>
            </a:r>
            <a:br>
              <a:rPr sz="2700"/>
            </a:b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или скорость их восстановления настолько мала, что использование их человеком становится невозможным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Пример: животный мир, растительность, грибы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Плодородие почв, деревья большого возраста (баобаб, секвойя)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Ископаемое сырье, энергоносители (уголь, нефть и другие полезные ископаемые)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исчерпаем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природные ресурсы, ко­личество которых не ограничено в процессе длительного природопользования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энергия воды, ветра, энергия земных недр, солнечная энергия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" name="Picture 4" descr="30"/>
          <p:cNvPicPr/>
          <p:nvPr/>
        </p:nvPicPr>
        <p:blipFill>
          <a:blip r:embed="rId1"/>
          <a:srcRect l="0" t="0" r="0" b="8347"/>
          <a:stretch/>
        </p:blipFill>
        <p:spPr>
          <a:xfrm>
            <a:off x="5726160" y="3581280"/>
            <a:ext cx="3417840" cy="32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rquitectura_y_calentamiento_global_090608_fig18"/>
          <p:cNvPicPr/>
          <p:nvPr/>
        </p:nvPicPr>
        <p:blipFill>
          <a:blip r:embed="rId2"/>
          <a:stretch/>
        </p:blipFill>
        <p:spPr>
          <a:xfrm>
            <a:off x="0" y="4127400"/>
            <a:ext cx="43434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инераль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совокупность запасов полезных ископаемых, пригодных для использова­ния в различных отраслях экономик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топливные, рудные, нерудные, химические, стройматериалы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9" name="Picture 4" descr="color358_1"/>
          <p:cNvPicPr/>
          <p:nvPr/>
        </p:nvPicPr>
        <p:blipFill>
          <a:blip r:embed="rId1"/>
          <a:stretch/>
        </p:blipFill>
        <p:spPr>
          <a:xfrm>
            <a:off x="3733920" y="3605040"/>
            <a:ext cx="5410080" cy="3252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2"/>
          <p:cNvPicPr/>
          <p:nvPr/>
        </p:nvPicPr>
        <p:blipFill>
          <a:blip r:embed="rId2"/>
          <a:stretch/>
        </p:blipFill>
        <p:spPr>
          <a:xfrm>
            <a:off x="0" y="3951360"/>
            <a:ext cx="312408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емель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все ресурсы, входящие в структуру Мирового земельного фонда (непродуктивные земли, обрабатываемые земли, луга, леса, земли населенных пунктов)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леса, поля, луга, пастбища, пустыни, болота, территории под городами, деревням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3" name="Picture 4" descr="kartinki-super721"/>
          <p:cNvPicPr/>
          <p:nvPr/>
        </p:nvPicPr>
        <p:blipFill>
          <a:blip r:embed="rId1"/>
          <a:srcRect l="0" t="10671" r="0" b="6665"/>
          <a:stretch/>
        </p:blipFill>
        <p:spPr>
          <a:xfrm>
            <a:off x="4876920" y="4213080"/>
            <a:ext cx="4267080" cy="264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1261062421_74be7e042e84"/>
          <p:cNvPicPr/>
          <p:nvPr/>
        </p:nvPicPr>
        <p:blipFill>
          <a:blip r:embed="rId2"/>
          <a:srcRect l="0" t="0" r="0" b="18370"/>
          <a:stretch/>
        </p:blipFill>
        <p:spPr>
          <a:xfrm>
            <a:off x="0" y="4199040"/>
            <a:ext cx="43434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д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включают в себя ресурсы пресных и соленых вод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моря, океаны, реки, озера, водохранилищ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4" descr="e4ab3d98134d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2770200"/>
            <a:ext cx="6248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иологическ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все живые средообразующие компоненты биосферы, т.е. организ­мы, которые являются объектами промысл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ресурсы животного мира, растительного мир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Picture 4" descr="1172780055_23"/>
          <p:cNvPicPr/>
          <p:nvPr/>
        </p:nvPicPr>
        <p:blipFill>
          <a:blip r:embed="rId1"/>
          <a:srcRect l="0" t="0" r="0" b="4762"/>
          <a:stretch/>
        </p:blipFill>
        <p:spPr>
          <a:xfrm>
            <a:off x="0" y="3701880"/>
            <a:ext cx="4419720" cy="3156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pandas_04"/>
          <p:cNvPicPr/>
          <p:nvPr/>
        </p:nvPicPr>
        <p:blipFill>
          <a:blip r:embed="rId2"/>
          <a:srcRect l="0" t="0" r="0" b="6868"/>
          <a:stretch/>
        </p:blipFill>
        <p:spPr>
          <a:xfrm>
            <a:off x="4419720" y="3718080"/>
            <a:ext cx="47242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сурсы Мирового океа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это комплексное использование всех ресурсов океан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мер: морская вода, биологические, энергетические и ресурсы дн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ocean"/>
          <p:cNvPicPr/>
          <p:nvPr/>
        </p:nvPicPr>
        <p:blipFill>
          <a:blip r:embed="rId1"/>
          <a:srcRect l="0" t="24446" r="0" b="0"/>
          <a:stretch/>
        </p:blipFill>
        <p:spPr>
          <a:xfrm>
            <a:off x="1447920" y="3710160"/>
            <a:ext cx="62481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креацион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это природные ресурсы, обеспечивающие отдых, восстановление здоровья и трудоспособности человек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территории для отдыха, лечения, туризм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4" descr="b30180a0b059"/>
          <p:cNvPicPr/>
          <p:nvPr/>
        </p:nvPicPr>
        <p:blipFill>
          <a:blip r:embed="rId1"/>
          <a:srcRect l="0" t="23339" r="0" b="8331"/>
          <a:stretch/>
        </p:blipFill>
        <p:spPr>
          <a:xfrm>
            <a:off x="1523880" y="3733920"/>
            <a:ext cx="6096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ПОЛНИТЕ ТАБЛИЦУ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ПРИРОДНЫЕ РЕСУРСЫ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09480" y="2362320"/>
          <a:ext cx="8229600" cy="3681360"/>
        </p:xfrm>
        <a:graphic>
          <a:graphicData uri="http://schemas.openxmlformats.org/drawingml/2006/table">
            <a:tbl>
              <a:tblPr/>
              <a:tblGrid>
                <a:gridCol w="2057400"/>
                <a:gridCol w="3429000"/>
                <a:gridCol w="2743200"/>
              </a:tblGrid>
              <a:tr h="11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реде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оизводстве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иродные ресурсы, используемые в промышленности или сельском хозяйстве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емельные, минеральные ресур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18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лиматическ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ресурсы, преимущественно внешние по отношению к планете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энергия солнца, недр, ветра, влажность и т.д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4" descr="6f4a0ca91a2aad09ec968340b2fabd23"/>
          <p:cNvPicPr/>
          <p:nvPr/>
        </p:nvPicPr>
        <p:blipFill>
          <a:blip r:embed="rId1"/>
          <a:stretch/>
        </p:blipFill>
        <p:spPr>
          <a:xfrm>
            <a:off x="1828800" y="3157560"/>
            <a:ext cx="55627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ищевые ресурс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те природные тела, которые на данном уровне развития производительных сил и изученности пищевых свойств могут использоваться человеком для удовлетворения своих потребностей в питании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1273571619_allday"/>
          <p:cNvPicPr/>
          <p:nvPr/>
        </p:nvPicPr>
        <p:blipFill>
          <a:blip r:embed="rId1"/>
          <a:srcRect l="0" t="6692" r="0" b="10976"/>
          <a:stretch/>
        </p:blipFill>
        <p:spPr>
          <a:xfrm>
            <a:off x="1828800" y="3684600"/>
            <a:ext cx="5181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стительного происхожд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зерновые, клубнеплоды, корнеплоды, фрукты, ягоды, овощи, сахароносные, масличные, зернобобовые, тонизирующие и другие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пшеница, рис, персики, арбузы, сахарный тро­стник, подсолнечник, фасоль, горох, чай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1236071129_qargidali"/>
          <p:cNvPicPr/>
          <p:nvPr/>
        </p:nvPicPr>
        <p:blipFill>
          <a:blip r:embed="rId1"/>
          <a:srcRect l="0" t="14669" r="0" b="7998"/>
          <a:stretch/>
        </p:blipFill>
        <p:spPr>
          <a:xfrm>
            <a:off x="2057400" y="4073400"/>
            <a:ext cx="48006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Животного происхожд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мясо, мясные продукты, молоко, молочные продукты, яйца, птица, рыба, рыбий жир, морепродукты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свинина, говядина, куры, гуси, омары, креветки, миди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0_c291_bb0e3b0_XL"/>
          <p:cNvPicPr/>
          <p:nvPr/>
        </p:nvPicPr>
        <p:blipFill>
          <a:blip r:embed="rId1"/>
          <a:stretch/>
        </p:blipFill>
        <p:spPr>
          <a:xfrm>
            <a:off x="4800600" y="360036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71949596ec94"/>
          <p:cNvPicPr/>
          <p:nvPr/>
        </p:nvPicPr>
        <p:blipFill>
          <a:blip r:embed="rId2"/>
          <a:stretch/>
        </p:blipFill>
        <p:spPr>
          <a:xfrm>
            <a:off x="0" y="3591000"/>
            <a:ext cx="4952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интетическ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это новый нетрадиционный способ производства искусственных продуктов питания на основе натурального природного белк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7eeaf4e847"/>
          <p:cNvPicPr/>
          <p:nvPr/>
        </p:nvPicPr>
        <p:blipFill>
          <a:blip r:embed="rId1"/>
          <a:stretch/>
        </p:blipFill>
        <p:spPr>
          <a:xfrm>
            <a:off x="5257800" y="39434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ripening-soya-beans-in-field-n"/>
          <p:cNvPicPr/>
          <p:nvPr/>
        </p:nvPicPr>
        <p:blipFill>
          <a:blip r:embed="rId2"/>
          <a:stretch/>
        </p:blipFill>
        <p:spPr>
          <a:xfrm>
            <a:off x="0" y="366084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родные ресурс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  это элементы природы (объекты и явления), необходимые человеку для его жизнеобеспечения и вовлекаемые им в материальное производств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" name="Picture 5" descr="Природные рекреационные ресурсы - Природные ресурсы - Научная и занимательная география - Merzlota.ru"/>
          <p:cNvPicPr/>
          <p:nvPr/>
        </p:nvPicPr>
        <p:blipFill>
          <a:blip r:embed="rId1"/>
          <a:stretch/>
        </p:blipFill>
        <p:spPr>
          <a:xfrm>
            <a:off x="1143000" y="2549520"/>
            <a:ext cx="66294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изводствен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это природные ресурсы, используемые в промышленности или сельском хозяйстве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Земельные ресурсы, минеральные ресурсы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9" name="Picture 4" descr="soil1"/>
          <p:cNvPicPr/>
          <p:nvPr/>
        </p:nvPicPr>
        <p:blipFill>
          <a:blip r:embed="rId1"/>
          <a:stretch/>
        </p:blipFill>
        <p:spPr>
          <a:xfrm>
            <a:off x="0" y="3238560"/>
            <a:ext cx="91440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дравоохранитель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это природные ресурсы, обеспечивающие отдых, восстановление здоровья и трудоспособности человек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рекреационные (минеральные воды, грязелечение)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4" descr="mud-therapy-in-crimea"/>
          <p:cNvPicPr/>
          <p:nvPr/>
        </p:nvPicPr>
        <p:blipFill>
          <a:blip r:embed="rId1"/>
          <a:stretch/>
        </p:blipFill>
        <p:spPr>
          <a:xfrm>
            <a:off x="4038480" y="3460680"/>
            <a:ext cx="510552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стетическ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это сочетание естественных ресурсов, положительно воздействующих на духовные богатства человек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природа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4" descr="0_bf31_551683be_XL"/>
          <p:cNvPicPr/>
          <p:nvPr/>
        </p:nvPicPr>
        <p:blipFill>
          <a:blip r:embed="rId1"/>
          <a:stretch/>
        </p:blipFill>
        <p:spPr>
          <a:xfrm>
            <a:off x="2971800" y="3000240"/>
            <a:ext cx="61722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уч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это природные ресурсы, исполь­зуемые человеком в научной деятельн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мер: ура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uranium-highly-enriched"/>
          <p:cNvPicPr/>
          <p:nvPr/>
        </p:nvPicPr>
        <p:blipFill>
          <a:blip r:embed="rId1"/>
          <a:stretch/>
        </p:blipFill>
        <p:spPr>
          <a:xfrm>
            <a:off x="3962520" y="2712960"/>
            <a:ext cx="51814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аль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природные ресурсы, исполь­зуемые в настоящее время человеком в произ­водственной деятельност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минеральные (руды, топливо и др.), лесные ресурсы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1" name="Picture 4" descr="1247462920_orman-resmi-5"/>
          <p:cNvPicPr/>
          <p:nvPr/>
        </p:nvPicPr>
        <p:blipFill>
          <a:blip r:embed="rId1"/>
          <a:srcRect l="0" t="9335" r="0" b="8000"/>
          <a:stretch/>
        </p:blipFill>
        <p:spPr>
          <a:xfrm>
            <a:off x="4038480" y="3692520"/>
            <a:ext cx="51055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тенциаль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природные ресурсы, неиспользуемые в настоящее время или используемые в недостаточной степен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энергия морских течений, термического градиента океан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4" name="Picture 4" descr="deltastreamturbine-001"/>
          <p:cNvPicPr/>
          <p:nvPr/>
        </p:nvPicPr>
        <p:blipFill>
          <a:blip r:embed="rId1"/>
          <a:stretch/>
        </p:blipFill>
        <p:spPr>
          <a:xfrm>
            <a:off x="3581280" y="3521160"/>
            <a:ext cx="556272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9-13T04:08:28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